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7FB-00E7-44AF-A7AA-064B1A19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194-3C8B-451D-A32E-FEE8E481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E4C41-8509-485A-B941-7CEC7326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FFF6A-9DE4-4279-B1B1-154FE303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988E6-B90D-4859-B0DD-01099595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C6C0B-ADE1-492B-B373-691D3CB9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EE72F-FD93-410E-BC59-C906BD9A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74E60-7A05-4272-A2A3-C2A5AC9D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765C8-30E5-4CAE-BA6A-6F85826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2EE3E-1EBC-4FEE-9BBA-EAC5155C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0613E-DB1F-4767-BEDB-6055BCB2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4F0AD-0FEE-43E6-A77A-46542FE1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F39-DDC5-4159-926D-FEBF6700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15FB5-C532-4374-B43E-8CA78C8A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25633-82C2-408C-A05D-B3CEF1E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12BF6-C68F-453C-9DFC-8A5624CA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643F7-6154-4AF9-A19D-03C781BA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833AC-4EAD-4EBC-867D-97091CC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22BE8-7127-4BE2-907B-600FEEFB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652B5-60D9-4948-91DE-1AEE6935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5139D-2C01-4773-979C-CE06054A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B1ED7-78E1-455D-9039-C3209C95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38A68-365C-4948-8DD3-7534598F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541-1F21-4E09-88BE-CEEC8537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9AC16-63A2-4EEC-A2BD-6A059797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08B31-5DD8-4D03-9F96-B1A6268D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8038F-CF4F-4D9E-9018-89BF95E1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754AE-BB06-4EDD-B630-E5B541F8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E794D-0183-4A63-9649-2D47AA78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41DBC-7D61-4452-AF0C-082618D9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8E746-B846-4D52-BCD8-EC603C17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7361F-92EC-4BB8-9702-5A49CDF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D3E8E-DC28-45E7-92DE-9E874B4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F4065-6138-4949-819D-2BB7A102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F005-4507-4751-8241-5B4C6DBF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5C038-83E6-473E-BF32-BFD10637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6B750-BE6C-4319-BCF1-FC675BDF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F3FED-E4AF-49A8-A69C-A535DD9C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28D7E-DEB8-4DD6-A6B0-4F0C6ABA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24F19-BB1F-4FE8-8B68-485D8F75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7D2E5-6E54-4B6F-9890-F2CF0507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073AF-95DE-488C-B94D-97689CC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E7C28-A60D-46A6-93A5-589A3227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84FED-DD06-46F9-8DA8-05BEBE66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8C2DC-FB32-48DA-B855-9E61831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D2BA-9E84-40F0-B9B8-A8220A3A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ED7F7-0FEC-498A-9485-A4D5093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EF111-49FC-4AC9-B373-23F5942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0A2C4-6F2E-4E7E-B3AC-4C22995D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01559-1D60-479C-9D8F-7C9C4C08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EA2E7-A13C-4FF3-A654-4D31843A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425BB-C0FA-47C1-8002-9CED21BC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6E8E5-D803-4A59-8D5E-B46C50E5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EE2DE-466B-4AD1-B8B4-55425874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09451-A074-46C7-AFBA-9DD57301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3FFDA-94EC-4579-BA32-89699D5E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A693-AA5F-499A-9342-3D00C9B8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BA12B-096C-4058-B3BE-2230316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DCDE2-768B-4198-BC66-AAD612C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72190-E7F9-48FA-AC76-302DFF3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BBCF2-B680-49CA-A80E-56422ECC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0D57F-3096-4811-8A44-C0EA8A96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66B2D-70C9-4810-AC0F-BEE3804D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46837-65E2-486D-BBAF-E8980697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90EA4-0B57-437D-94E2-32A3E45B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29C01-A63B-479D-893A-BE5D5D51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DDF5C-61E0-4C65-8F55-73BB1DAB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5E88-D9AE-4520-80B6-23CD5FFD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11C2D-9866-49A9-A8EC-2FA6450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B1823-5C21-4C62-B5B0-7DCA0DF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B0786-9942-4511-8EF0-2B76A84B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FB5DA-417F-48E5-87A7-3F0CCA52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DCCD8-660E-446D-B5FF-FDFFC90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296FB-F5F5-4AFB-BF0D-6088E624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7A75E-EFF9-40BC-9967-C3A5039C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97CD6-AC9E-4FF0-9833-2A21CB04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302B7-4830-43B9-9B5E-1A7B29A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99664-6929-495D-A0E8-A1DB92F0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1398-9B4B-4890-9CD9-A1DEA384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6FB06-5B35-4BA2-B518-8A9461E3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2FA71-27E2-4033-AC67-EC24FBE3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D60E7-B677-469E-AE76-393FD193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30A29-BB9E-4F7B-BA95-31FBCEB9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101F4-EA0A-43F6-A779-91AAB8C1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058A0-7102-4BA8-B3A6-441BDD4F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87F9E-EC6D-4C90-AEC8-6702ED3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E62C7-5F17-4746-85F6-2E5A1CB5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5EBC0-FDE7-499D-A0B3-A5F23493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10577-588D-4D7F-8100-66E64583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68D2-405C-4DAC-94B9-D4AF0CAB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00D5C-10E8-4108-94A3-DDCB0A52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2800B-751D-4847-83B7-8A8649D9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C4999-577D-4E1B-9108-E85DCC77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9D9971-9381-44E5-8AC4-C2CF136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4F4D8-6FBC-4EB7-BA24-E8FAD2E1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9A814-91D1-4BEA-81F4-F223F58B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F3BF3-A91D-44EC-9EA7-BB24DC2F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5C0EF-F7F2-48C6-9591-D4FA8C9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FAEBF-2B11-4159-9A09-E21FC089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A7183-C076-420E-A301-C2FE403D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CA20-4E74-498B-BA77-B55232A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EC7D6-7F3D-4969-9DB0-D705110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73899-6A2A-4BD8-8926-DDB1EF01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322D2-FE15-416B-864B-9AD12E65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6CB2D-2BAE-4E28-83FE-1AFA3BE8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7EC95-FD4B-4064-B981-7ED945A5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B9A1AA-C536-40EF-B912-59E4A220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CC3A5-E2B5-406E-8194-888C5E9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E1D9A6-87A0-4C6D-AE2A-61985CFA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B76D8-E4A7-4E3C-939D-1BFDF69E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CC765-31C2-4855-A6F1-D4196530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7EB-5834-40A8-8D7D-9FBDFB6A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1BD1-F091-449E-80AA-85A0FC6A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E0969-919D-4DA3-A371-56F0778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70F03-3682-444D-8EFB-270A60E4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4BD58-9699-4463-8DE2-0D06497E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04141-519A-44C7-8DE2-5D46DCEA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9AFC5-3B6F-4633-96D1-FB87885E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A1D4A-63C3-4B88-93B9-B3E5FBFA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B397A-FB78-47E6-991A-EB2165C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171B5-04D2-412C-9EAE-1FE1046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1D73D-1B5B-4BB7-BCF4-1C6DA4BD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3B146-0E74-48DE-A5D4-100188BE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FDCC-8DA3-4E0C-8E87-461EFB97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91B55-2192-4777-BA93-0A50FD39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71812-C224-480E-BC06-953F2F18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CCC1A4-F39C-493F-AF71-63A3DA72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E8EB8-25A5-4509-88A3-548B3AFB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8B438-EBA9-4EBE-B534-728B9C82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8DC49-582F-4D30-816B-7640D511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EB298-8674-4A55-A6A9-F4A5EA7E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AA1BD-C1F5-4AA3-884C-E08FF9D2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841B3-4B80-484B-8997-5205ACC8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21B4A-4F47-4980-90EA-13241C09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8145-9306-4533-A521-678BA936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0DA87C-2603-4DCF-AB5C-EC0BE90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5D8E0-B11F-401B-8641-91A9167E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304B3-3E1D-4BA8-9CAC-2BE97842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AC4ED-3AEF-4A41-A396-0005BB3F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A696D-C736-4E26-8AE8-2893B06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FB376-9B56-49FC-B2B4-D1A5DAA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C70C9D-08F0-4F2E-B5B4-EC159959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63B2D-3277-4D45-9429-807773DE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15A6F-2D2F-46C3-B031-3525AC49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A294B6-C62D-4934-AC69-57FBBC8E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BC01-545B-4CF8-B65E-DD4E155F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1E68C3-BEE4-4E26-A6BF-61188878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5DF0B-D757-4FE3-A340-D8DA7DDF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4918F-B839-46E0-9176-E7D343FB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0DBD1E-57BD-42C8-9260-FDE38631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6BC2B-415E-4B5D-9AD8-9286CF0E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898A1-5309-47F1-99DC-E38F3F1B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70C45-4CFB-4309-AFEA-B7A227C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73300-FE31-41D2-84DD-F1763060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28DB08-D022-4598-88E9-C1014785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1F9F9B-B568-4B10-AF61-EEA75A28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E01A-777A-471E-937E-6117BA12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5A3A4-3F06-4566-8A4F-F6112B69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BC746-B668-43F2-A6E7-1530D8BE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60B2E-7BCF-41C3-A6E4-578A211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9381F-382B-44FA-9BB4-D0CA7AB7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9E5BF3-B8FB-468F-94FF-D02740CA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5A33EE-05AB-4B55-B87A-3B2421C6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7DF46-9E98-4F62-B4E1-D28FA3A2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9B8A6-B238-4567-8038-67C491F5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A595D-CACB-4874-BBFF-8D991F78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74F24-AF45-47E9-930A-FDEE473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71DB-FC6F-4FDF-A852-FBF62B1B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7F62E6-D4B3-4FEA-AC9A-81090306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48C3F-3BAC-40F1-8B92-30186CD2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3DFE32-EFA8-40AF-B5E8-E816AAD9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1FEBBC-727F-4B77-9E5A-6A1E8F75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97256E-2912-4C6F-B944-FF793562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13FBC1-AD04-4DBD-9681-4A860403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224447-FE73-4585-8F7F-7C57763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31434-F08B-4677-BB03-D816CA58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417658-A488-4DA2-8843-8E029121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F23E9C-2DCA-44DB-AD5F-8580BA18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B7E0-466A-4673-A234-788F0CEB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0FD6C4-F88D-4FE0-8649-5883287C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DC053A-E3D9-4AB5-8EA9-84012783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DCD9E-202B-464E-9FD4-54CF15D9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2AD617-A9DE-469B-87C8-212CBA49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C1FD65-E698-4EFA-94F7-0C209B74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C0F4BF-DB4A-4A86-A036-FF4A5F6E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9BF683-CA04-4629-B7F8-8C716051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9FE853-5A08-45B3-9EDD-9D07C094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C9231E-1DD5-4886-BD34-6E9C16F8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8696E0-0430-4F63-AD4E-3C867239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B3AD-4DAD-47D9-930F-766FD1C7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C3A336-0C18-499F-A841-055C9999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5D7076-652B-4AC0-8C2E-7F12A2D6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864B16-CFBA-4269-BC9B-1ACFA2F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8A67F-2C2F-484B-82A0-49B98386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4386E5-54C7-4176-B44C-E6FFA83A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C7EBC1-0A11-488F-BF64-D0B7408E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DBB805-69AF-4A29-9A94-0A30A712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6A97F8-594B-4A6C-A5B5-941F6214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461BA6-D789-483F-A25F-B951312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53784E-12FB-46FC-A9D8-EA6257DF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79E6-2827-4050-81C4-A5640DC1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158F1D-3452-4E70-A1E3-892D820A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FF27AE-80FD-4443-B160-495EFD69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04C8B0-29DA-4A87-9C32-487BC4F7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5196FE-2A14-44FF-8AB8-973C547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D2489E-E682-47E2-B005-A2BEA61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16204A-DBAB-4E2D-B55C-3FA6FCB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4B4B00-2B56-4443-AB7B-47E30AB8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A4A95E-BB58-400E-B968-D0C6F4AB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4FDC6A-C51C-406A-885C-5EFB8D39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42193C-1E80-4A74-B37E-434E217E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D462-3FDB-49DD-9439-4D8E19EC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066715-757A-45AF-AB30-4F71C168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85C8A9-5A67-4FF8-9CC7-8B390230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5D3F33-C60C-4C37-BDBB-B9EE01B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16E87A-2C97-49DD-8186-A18C59DB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E712AB-D79A-4800-908C-4A2BAB5F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CC4499-ECCB-401D-A24B-5F6F4102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68B70F-5279-4C2B-B750-CB6C895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F69B11-1DF3-417F-998D-BBF6AA17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C2F084-A734-4406-978D-6B4A406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668827-3D1A-41BD-AF27-E1F3B621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3FA-4680-4359-9E6D-612FBA66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7C9E-98BC-43A2-9D3A-A6816A5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26B1BE-A469-4FE4-AD44-FC8656BC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27D6F4-97C8-4BD7-9C1B-107E9C22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0CA735-1A8D-43D6-A68D-992130EC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533D5D-1174-41DC-A87D-834AF9F0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9482A6-B64F-4040-9E0B-30B21CE3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29FB31-50DB-411F-AE73-F40DD2C7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88BD29-027E-4B7F-B4F4-2E349C10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B9A78E-FA49-469F-B881-59C8BF35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572C3C-994D-4C93-9ACA-0D70B27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31983D-6F30-4D6C-9124-C8F53307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4FAB-2C57-4554-A31E-60736462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8CA033-ED4E-40AD-AD99-28248088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96E7FC-CF92-44F1-9BA2-C1CB5C34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CBABFD-F03A-48CA-BA1F-4371F3BC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74A717-27D2-4B04-AE43-3C6FD3B5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3C4CFA-35C1-4092-A308-8A1F9AC2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6586F7-5A8F-4455-AA11-0E690FF4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FD46B6-C70C-44DA-BFBB-32AA041A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C5E814-641A-4A97-8796-DF31BE35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CC9F08-660D-45FC-A5E3-B4E333D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9E0F53-7706-44D6-A9FD-DF4D0E4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6768-2638-473A-A8A0-F1B13E49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1E32F3-5DFA-4848-9A83-D21CC54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16E9A7-4ABD-47D2-B892-87B4B74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9D5D48-60E4-4494-860F-1CB0A2FE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680AEF-BF5B-4AD9-8AC7-C2BAFB74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9C6240-AB68-4554-96A3-1EC9BC9F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4D3C7B-6615-4E71-BCFC-4906A0A0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03949E-5734-4BFA-9838-8FBF3505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8ACFA5-C7E5-4F25-B1C0-934875E6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26ED61-E559-4704-AC3F-0C854E8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177D83-2B89-4A2C-8954-30A81299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6BCF-0E44-445E-97FC-664F34D0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774FA9-933C-4B31-AF95-54A8C3A6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584686-BC90-47C2-8BDB-27B02340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D1C24C-D995-4817-80F0-4EF958E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0E082C-B4AC-4C13-99E8-A0CF01B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029443-7B6D-4BDF-8D1C-0D763E64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E1697A-5A35-4EB0-AAB4-CF2695C5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091CD5-E3DC-49E2-8955-14DC0F48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CEE2DA-2B7B-4D4A-825A-D9D6DAD1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0EFF08-A0F4-4FD7-90A1-88F783CB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95AC09-E52D-4657-847B-0835E1F3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95F01-8E10-4846-B7FD-F47796C5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9F7A97-C369-471D-97C5-6EF16F15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D6F952-CC5A-41EF-A59F-D68DA65E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7E1E31-23A8-4AB3-8927-F5C6F665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976D74-601D-4A28-8E36-A90D826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2143E0-A52A-490A-BBB2-DC63E0C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14D133-2B4E-4593-9694-F6C0043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567E58-5B31-457A-B324-85CACCFA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A1E5DE-D922-4A34-9B4B-8D906ECA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5272A4-75CE-41D1-9100-463EE1F0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A83D37-9C53-4CB1-9A51-CEECC706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C22A-9F12-4C90-BB7C-808842A1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AE26EE-CCB9-4EFB-9F81-6DBE0F98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987B32-793B-4B18-BCF5-3A1ED54A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C38CC3-85F7-4781-80E0-43C78B5A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67E177-F204-4560-986B-0BFC0BB4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567D4F-D0B7-449F-8EB2-31834A8D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83EB86-8F02-4AA0-9BB8-BF15E729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1FFC24-70AB-4676-9CED-1B9CFEB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EB9458-F5EF-467A-ACAA-2721B0C0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BD1686-9A6B-4400-A5F7-94606A27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64E83E-CDF3-42B8-BD88-B7BF7A54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6CBA-FD54-4B7A-8ADD-E36948B1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7B0F9F-0285-4411-ABC7-2403859E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5478DA-6DDE-4BCC-A438-569A3084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24C527-46CA-418D-97C9-975CAC34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B90BB3-7EFD-4362-A37D-93E93542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A6C2DD-70AA-43F5-BC08-A56035A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DD5F3-6C4E-4494-A2D4-85A0BE18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6D0B69-996E-4B60-8358-507BDF1D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F16937-D443-4A36-B063-3B3A0A6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041899-1D18-4051-9921-AADDA4B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F82693-D178-4FFD-81F6-0E99A70A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D3393-3E0A-43FB-A201-9704AD40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E65FC3-0B70-4642-A159-EE328AD6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35017D-9010-4C5E-B802-5A9E421D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F10D89-7458-43EA-B9E6-7CB5979F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DB5012-D73D-4DC0-8870-0725492B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401E2F-7D2D-41A7-BC43-7A3CD237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7363E1-FF24-4E8C-B961-27D26390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EB7235-838B-4386-B253-924F744D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A6E75C-43CF-42D5-AA5D-7D933B2B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D1F541-3D7F-4119-B981-900BB458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2470FB-7E28-4483-8392-3B771CBB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28D5-3284-4C41-89F2-FC1ADE3F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3C0EB2-21A1-4942-8AEA-6D204FFA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EEC573-B89E-4A26-8770-F6E40F8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5749CF-0117-44BF-A247-4F603573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652AC8-9F4B-4618-86A0-8D0B782E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D71678-E0A5-43A3-BA7A-C4E50399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D75ADE-0423-49D8-BD08-C25E55AD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8FFF10-43EB-4939-BC98-AF54EC38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CD7529-3ED7-4F10-A1D1-21BC0D40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AFC457-967B-4A70-A08E-4F6D5109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0A120D-037A-44F9-B096-EB27208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F7F9-622A-4579-B4E3-89EFB809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AFEA73-FBA7-4D66-BA3E-4A2707D3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2AFFD3-3672-4CE1-A9F3-A5F1CD7F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A56EA5-2728-4227-B2A5-F75D4276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B21160-4E38-4219-B553-B974E31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3F5386-3790-4373-8E4E-EDD2EBB3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929137-85D2-4F9F-B6FA-F7AFF089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0C87DC-A86D-4885-B1E9-EC275D5C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FB466B-A661-4FA0-8B4B-46DB81B4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B97F41-BAF4-4981-87B9-BEC927A2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E6267A-082E-4039-99F4-F0126977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1A3-CDB9-4230-A8A6-4D8C78CC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B7E9-678D-4BBC-8225-BA72AECA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8612FE-6D40-496F-A745-02C72B81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05A29D-3392-4619-991C-61A1D8D3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A3D711-4065-4675-9363-FB4FA59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6CF65C-AFAA-4D54-A5D6-99D591F0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0E7FC7-29EA-43AF-9730-E6F93905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1DECDA-AFDD-4E66-8F7F-CE7CCEE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95127E-0D79-425D-B493-2C6361FA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AF9167-60E2-4A90-8AAB-BCDE2966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6E03A0-85EF-43D2-9172-4207947D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A8D188-357D-45A3-ABDC-64E72FD3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DAED-AC83-4D11-9722-D13984AD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96834C-369F-439C-9766-F36133A0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A29D78-91C9-44EA-AC07-06D4EE24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A7C41E-B18F-4FF5-90A3-8DE22C82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CF9B28-A49B-4C90-91CA-9424D83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9D76ED-28D7-4DAA-B1BC-6FAC719E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0FECF2-85EE-494E-BDCB-D0A683DB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C0A349-890F-4CE6-A471-441E5640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4E6DB2-0171-4BB5-BEFC-C5A7AF08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3B11E1-62D9-405B-BCDD-F86E4FF8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273899-1C1F-4B04-9320-D7F07850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2C09D-51FF-4120-A96E-11A2CDC6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EA921A-396E-491A-A278-8C6F8A1F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7A6669-0CC6-42D6-A6B9-0C703842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5AF52B-F60D-4D0E-B6D3-D75542A4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E8904E-F40D-44E0-BA9E-F59B5812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F74FEA-BB13-4E25-9C82-ACC8DC6E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F0E4FD-0882-44EE-A3A4-BCF5F1B7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92FB05-2C17-4D99-BCA1-DDD58D13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CB01DA-6F26-448B-8C6B-DA1DC8ED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EF2DC9-B847-4283-9C2E-4BEB7D6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E8A198-4668-4D20-A787-9F6B78D9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442B-3BB0-4D15-9791-59477C4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A7D5FF-9B5D-4558-BAF6-393EDB9E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C3017E-12C6-4556-9B2F-5EF3AE7A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45D823-77D6-443E-89CC-A331EEA6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5FD54F-3CDB-4460-BCB5-8493F106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9B98CB-ED9F-4567-8673-D9FF4B6D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45EECD-C1DA-44BB-8A67-A05F1F05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9E956C-BCAB-4BCD-9EF3-545FAD0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D1E9B2-C798-4667-8505-C6B11009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F5FDE7-02B7-4D0B-9B7C-06C9D559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6FC4C5-75D1-4459-A4A4-C3A63952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57E6D-129E-40E9-A384-1D1597D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055518-6EB3-4E8C-AA65-1AFC0F6F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37CFB3-E3C3-4E52-8B05-7DA86CD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A28014-16D6-4608-9BF2-2E67D05B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577CD2-7BE1-48B1-AA94-B0D4F1F9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DD9510-1F4C-4CA8-B5CB-8498A28D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A47C21-3A05-4F4B-BFDA-A43FAD50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0098C0-4FF4-4A2D-A85A-9C179E7F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518AEB-1BD4-4F65-952A-7F23CAA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445CD8-C8E5-4D7C-B86F-2D255F16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04BA53-DDB1-4636-BFBC-9D5FFE7F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510A-818D-4C5D-85C1-C0BDAEBD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F3EA490-45B4-419B-9EBD-DC0A889B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B0B69C-DF86-44E9-BC28-E1DA558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EBFBD3-2939-4CF8-931B-15FBCA5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4EA9B2-00B8-4DCF-B30B-ADBC99E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1287F6-21CD-4448-8B48-6E908049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0043FA-1A7B-4C83-9070-D8BAE92F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464508-E2A9-488B-9288-E13D8448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A2E4-9A5E-4E79-9F39-9BDAB040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4C0D-B2BE-4254-92BD-AA422B6E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47F6-4994-4668-9E8A-BE647305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D864-518E-4AE1-85FD-B7D48DC5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7F9-9BDB-4F92-8D0B-85BE199D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65B2-1429-4693-8E06-41A6A6BC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424D5-0281-4E0C-9650-16587D0B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BA4C-BB5F-4630-B631-E07E727C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3EC8-84DA-40F4-976A-C9967553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27A91-B1D6-4D88-AFB3-095FA7F9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EB0C8-D217-4CC5-8E24-1864E684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3B6A0-4E13-46B7-AC15-5DFD8654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8D277-3202-4A8A-A214-D8CA906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3FA88-9C65-466F-8E07-6A5379DB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E9A1A-E8D3-4C96-AEBA-22D1ABE9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25B-58F2-433B-8EED-04FFC784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FCAFA-0BC2-42DC-8D6A-6AC23462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19A5-2901-4E49-8870-F56416E5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6E2A1-CE5A-4539-890C-9433636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C3BB6-3370-43F9-A8C1-ECBE321B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9334A-A025-475F-9B09-5C6F2E75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8E65-FAE7-40B0-8653-8AC5A8C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1AFB9-3A54-4975-B798-1A8D906F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26C37-88A6-4DD3-AB31-E5A1F2AD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4E6E-7525-4D92-B872-556D6924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6CB7-49D4-4739-A6A3-D412C84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417-DAC1-4C39-A65E-C1AAB677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3A2D1-EDEB-4694-AA07-79A91203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9253C-2D5D-40B7-9901-28336AEB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D7653-2A6C-4650-B384-FFD0FB95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86C4D-6246-410C-985B-14A531F8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3540-2D64-4039-99C9-C2B8DC29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53EF1-E5C9-4F45-ABFA-51027A86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8A5F3-9DAB-40AC-95E8-7081D77B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69C2-C430-4E69-A37F-8D18BE3C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BB317-1F83-4BA6-958A-B4AC25B8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5A576-489B-4E50-B8EE-B4716CB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338-E6FD-490E-AD71-75006C23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16A2F-2DC3-4F84-8889-D4503862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8D602-DE00-4EA8-AED4-C98B08EC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50357-2B65-4924-B2E1-0F324F0E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1956E-A6D7-466A-A0DD-A93C00AE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E155A-E05A-49B2-AA1B-EE202190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4DDE9-3C17-466B-BC1F-A6D882A6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86A03-DEE8-4E3B-B7AD-0C88E7C3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116E7-F7B4-4D65-B1F3-B5140881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E59EE-B0F2-4FD1-B90A-F7CCC677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79D73-7980-48B7-B670-7010D5FA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028-C7B8-4107-BF58-D9F3E43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6E65-50FE-4601-AC88-5E4F7EE9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C4663-4F1E-42F0-BB23-19ABFAD0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F41FC-B6DE-46F4-9F1B-F2F1742F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F0E20-A6E7-4300-BAC6-48ADDC2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BF4D4-A23B-4347-848E-5CE7E1AF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7BDB3-FD73-4DD9-8CAC-3232870F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0682-7741-4F85-83B9-251249E2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FCB34-ADB1-49BB-86A0-85C57A15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8EBFF-EF5A-41A9-8CC8-4A9515A2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00DFA-C967-4C50-BB07-BB04ADE2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783C-6843-41C4-8975-1B44B5C2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A00D-DBCB-4C45-BF2B-BD2E8531C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6E31-2E9D-4AD4-8FAB-7CFF24774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FD7D-ACDF-46F4-81E6-771142B78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E0E2-9A1B-4E20-A06B-C01043166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BB33-65CE-4EE7-B77C-9D8945B14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A08A-3F98-43F2-AEFA-CC05A9BF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2EEA-EFD8-4B5C-AC20-9C42949B5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D05-2974-4244-9DE1-5BB4E2ED7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C070-EDBD-47D8-BA90-B52F34E6F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9980-CF5D-43BB-9DD9-478DF4BBC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0AED-3338-4876-B355-04E364107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3CB6-7828-42D4-B5AB-075315E8D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9899-8003-4B66-BF4D-6400FA15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8308-5A74-40C5-A121-115C8F709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82A-2F8A-4B3B-B897-B02BEA704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CE8F-931A-473A-BF2E-307C367D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5139-71D8-440B-AF5A-AE3DBF53D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EF90-B87E-4487-9D05-7C5C1E7D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9EB8-3531-4A7F-80A8-93B3A5CF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CA8E-7271-4F37-BDD2-F35C7525D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DD25-8C67-48EB-A3EE-035D040EC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826-A1E3-4F2B-BC28-EAAE5A8A0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16B3-C91D-4E64-B86A-19CBFC179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15E1-55DE-487B-A18A-F60D34307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D08A-ECF7-467A-806B-E03A769B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6657-BBF0-40A7-810F-28A1BC9D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A475-CD29-4F1B-9E4D-60B1609F7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FB8-F64B-490B-BD3B-96351BF21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87F2-BB05-40CC-9961-590D6ADF7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0C3C-130A-4D85-9C64-5F42B28AE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B735-7137-445D-8024-59652F601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88A7-196A-47F0-9BE2-1780D64D8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90E3-0E6E-41FC-9311-41BD72EDE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0EF4-FDDF-4E62-B3F4-7E35DE710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1FCD-F6B3-4432-BB26-85A070530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DF2C-DD62-44E1-B9F3-17CDF1C20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ABC2-2175-4DF3-A4CA-06A369555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du.pe.ca/southernkings/landforms.htm" TargetMode="External"/><Relationship Id="rId5" Type="http://schemas.openxmlformats.org/officeDocument/2006/relationships/hyperlink" Target="http://members.enchantedlearning.com/geography/landforms/glossary.shtml?p" TargetMode="External"/><Relationship Id="rId6" Type="http://schemas.openxmlformats.org/officeDocument/2006/relationships/hyperlink" Target="http://www.google.com/earth/index.html" TargetMode="External"/><Relationship Id="rId7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4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19 &amp; 2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Mystery Island Project Due Friday      *Geo. Terms Tes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5"/>
          <p:cNvSpPr/>
          <p:nvPr/>
        </p:nvSpPr>
        <p:spPr>
          <a:xfrm>
            <a:off x="0" y="990720"/>
            <a:ext cx="3962520" cy="368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19 &amp; 2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and formed at the mouth of  a river by deposits of silt, sand, and pebb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narrow strip of land bordered by water, that connects two larger bodies of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narrow waterway connecting two larger bodies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34"/>
          <p:cNvSpPr/>
          <p:nvPr/>
        </p:nvSpPr>
        <p:spPr>
          <a:xfrm>
            <a:off x="251460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35"/>
          <p:cNvSpPr/>
          <p:nvPr/>
        </p:nvSpPr>
        <p:spPr>
          <a:xfrm>
            <a:off x="3021120" y="2938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sth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36"/>
          <p:cNvSpPr/>
          <p:nvPr/>
        </p:nvSpPr>
        <p:spPr>
          <a:xfrm>
            <a:off x="1295280" y="3886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45" descr="green isthmus"/>
          <p:cNvPicPr/>
          <p:nvPr/>
        </p:nvPicPr>
        <p:blipFill>
          <a:blip r:embed="rId1"/>
          <a:srcRect l="0" t="21801" r="10001" b="14382"/>
          <a:stretch/>
        </p:blipFill>
        <p:spPr>
          <a:xfrm>
            <a:off x="0" y="4237200"/>
            <a:ext cx="5486400" cy="262080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47" descr="Strait_of_gibraltar"/>
          <p:cNvPicPr/>
          <p:nvPr/>
        </p:nvPicPr>
        <p:blipFill>
          <a:blip r:embed="rId2"/>
          <a:stretch/>
        </p:blipFill>
        <p:spPr>
          <a:xfrm>
            <a:off x="5465880" y="3581280"/>
            <a:ext cx="3678120" cy="381024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49" descr="delta"/>
          <p:cNvPicPr/>
          <p:nvPr/>
        </p:nvPicPr>
        <p:blipFill>
          <a:blip r:embed="rId3"/>
          <a:stretch/>
        </p:blipFill>
        <p:spPr>
          <a:xfrm>
            <a:off x="3886200" y="1033560"/>
            <a:ext cx="52578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Picture 1026" descr="Fr-island"/>
          <p:cNvPicPr/>
          <p:nvPr/>
        </p:nvPicPr>
        <p:blipFill>
          <a:blip r:embed="rId1"/>
          <a:stretch/>
        </p:blipFill>
        <p:spPr>
          <a:xfrm>
            <a:off x="685800" y="609480"/>
            <a:ext cx="8001000" cy="587232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1027"/>
          <p:cNvSpPr/>
          <p:nvPr/>
        </p:nvSpPr>
        <p:spPr>
          <a:xfrm>
            <a:off x="42670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028"/>
          <p:cNvSpPr/>
          <p:nvPr/>
        </p:nvSpPr>
        <p:spPr>
          <a:xfrm flipH="1">
            <a:off x="35049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oup or chain of islands clustered together in a sea or oce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chipelag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0" name="Picture 7" descr="The World Archipelago, Persian Gulf"/>
          <p:cNvPicPr/>
          <p:nvPr/>
        </p:nvPicPr>
        <p:blipFill>
          <a:blip r:embed="rId1"/>
          <a:stretch/>
        </p:blipFill>
        <p:spPr>
          <a:xfrm>
            <a:off x="3733920" y="2362320"/>
            <a:ext cx="4647960" cy="403848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9" descr="Click to show &quot;archipelago&quot; result 4"/>
          <p:cNvPicPr/>
          <p:nvPr/>
        </p:nvPicPr>
        <p:blipFill>
          <a:blip r:embed="rId2"/>
          <a:stretch/>
        </p:blipFill>
        <p:spPr>
          <a:xfrm>
            <a:off x="990720" y="2133720"/>
            <a:ext cx="2286000" cy="37335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5" descr="http://members.enchantedlearning.com/agifs/archipelago.GIF"/>
          <p:cNvPicPr/>
          <p:nvPr/>
        </p:nvPicPr>
        <p:blipFill>
          <a:blip r:embed="rId3"/>
          <a:stretch/>
        </p:blipFill>
        <p:spPr>
          <a:xfrm>
            <a:off x="6858000" y="838080"/>
            <a:ext cx="1200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WordArt 5" descr=""/>
          <p:cNvPicPr/>
          <p:nvPr/>
        </p:nvPicPr>
        <p:blipFill>
          <a:blip r:embed="rId1"/>
          <a:stretch/>
        </p:blipFill>
        <p:spPr>
          <a:xfrm>
            <a:off x="835200" y="828720"/>
            <a:ext cx="717516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4" name="Picture 9" descr="http://floridagulfofmexico.com/images/gulfmap.jpg"/>
          <p:cNvPicPr/>
          <p:nvPr/>
        </p:nvPicPr>
        <p:blipFill>
          <a:blip r:embed="rId1"/>
          <a:stretch/>
        </p:blipFill>
        <p:spPr>
          <a:xfrm>
            <a:off x="1905120" y="129528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95" name="Rectangle 2" descr=""/>
          <p:cNvPicPr/>
          <p:nvPr/>
        </p:nvPicPr>
        <p:blipFill>
          <a:blip r:embed="rId2"/>
          <a:stretch/>
        </p:blipFill>
        <p:spPr>
          <a:xfrm>
            <a:off x="5389560" y="3139920"/>
            <a:ext cx="2936880" cy="114012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" descr="http://members.enchantedlearning.com/ggifs/Gulf.GIF"/>
          <p:cNvPicPr/>
          <p:nvPr/>
        </p:nvPicPr>
        <p:blipFill>
          <a:blip r:embed="rId3"/>
          <a:stretch/>
        </p:blipFill>
        <p:spPr>
          <a:xfrm>
            <a:off x="1143000" y="914400"/>
            <a:ext cx="120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WordArt 3"/>
          <p:cNvSpPr txBox="1"/>
          <p:nvPr/>
        </p:nvSpPr>
        <p:spPr>
          <a:xfrm>
            <a:off x="1371600" y="1447920"/>
            <a:ext cx="5943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lligraphy"/>
              </a:rPr>
              <a:t>What is…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2286000" y="2666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Calligraphy"/>
              </a:rPr>
              <a:t>A body of land that is surrounded by water on three s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0" name="Picture 9" descr="http://upload.wikimedia.org/wikipedia/commons/thumb/f/f6/Satellite_image_of_Italy_in_March_2003.jpg/250px-Satellite_image_of_Italy_in_March_2003.jpg"/>
          <p:cNvPicPr/>
          <p:nvPr/>
        </p:nvPicPr>
        <p:blipFill>
          <a:blip r:embed="rId1"/>
          <a:stretch/>
        </p:blipFill>
        <p:spPr>
          <a:xfrm>
            <a:off x="457200" y="14479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WordArt 3"/>
          <p:cNvSpPr txBox="1"/>
          <p:nvPr/>
        </p:nvSpPr>
        <p:spPr>
          <a:xfrm>
            <a:off x="1219320" y="914400"/>
            <a:ext cx="655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oudy Stout"/>
              </a:rPr>
              <a:t>A Peninsu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oudy Stout"/>
              <a:ea typeface="Goudy Stout"/>
            </a:endParaRPr>
          </a:p>
        </p:txBody>
      </p:sp>
      <p:pic>
        <p:nvPicPr>
          <p:cNvPr id="1603" name="Picture 6" descr="ag00037_"/>
          <p:cNvPicPr/>
          <p:nvPr/>
        </p:nvPicPr>
        <p:blipFill>
          <a:blip r:embed="rId2"/>
          <a:stretch/>
        </p:blipFill>
        <p:spPr>
          <a:xfrm>
            <a:off x="5257800" y="2743200"/>
            <a:ext cx="1303200" cy="1714680"/>
          </a:xfrm>
          <a:prstGeom prst="rect">
            <a:avLst/>
          </a:prstGeom>
          <a:ln w="0">
            <a:noFill/>
          </a:ln>
        </p:spPr>
      </p:pic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00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Script MT Bold"/>
              </a:rPr>
              <a:t>What is a narrow strip of land connecting two larger landmasses. It  has water on two sid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6" name="Picture 7" descr="http://upload.wikimedia.org/wikipedia/commons/thumb/8/81/Pm-map.png/450px-Pm-map.png"/>
          <p:cNvPicPr/>
          <p:nvPr/>
        </p:nvPicPr>
        <p:blipFill>
          <a:blip r:embed="rId1"/>
          <a:stretch/>
        </p:blipFill>
        <p:spPr>
          <a:xfrm>
            <a:off x="1447920" y="609480"/>
            <a:ext cx="6400800" cy="4705560"/>
          </a:xfrm>
          <a:prstGeom prst="rect">
            <a:avLst/>
          </a:prstGeom>
          <a:ln w="0">
            <a:noFill/>
          </a:ln>
        </p:spPr>
      </p:pic>
      <p:sp>
        <p:nvSpPr>
          <p:cNvPr id="16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028"/>
          <p:cNvSpPr/>
          <p:nvPr/>
        </p:nvSpPr>
        <p:spPr>
          <a:xfrm>
            <a:off x="274320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wcard Gothic"/>
              </a:rPr>
              <a:t>An Isth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029"/>
          <p:cNvSpPr/>
          <p:nvPr/>
        </p:nvSpPr>
        <p:spPr>
          <a:xfrm>
            <a:off x="4648320" y="9144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2" descr=""/>
          <p:cNvPicPr/>
          <p:nvPr/>
        </p:nvPicPr>
        <p:blipFill>
          <a:blip r:embed="rId2"/>
          <a:stretch/>
        </p:blipFill>
        <p:spPr>
          <a:xfrm>
            <a:off x="-12600" y="3986280"/>
            <a:ext cx="2901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129528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Showcard Gothic"/>
              </a:rPr>
              <a:t>What is a narrow body of water that connects two larger bodies of wa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39384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27990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2" descr="C:\Documents and Settings\sramsey\Local Settings\Temporary Internet Files\Content.IE5\FY2OJR7E\MC900438074[1].png"/>
          <p:cNvPicPr/>
          <p:nvPr/>
        </p:nvPicPr>
        <p:blipFill>
          <a:blip r:embed="rId3"/>
          <a:stretch/>
        </p:blipFill>
        <p:spPr>
          <a:xfrm>
            <a:off x="3200400" y="3352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568" name="Rectangle 3"/>
          <p:cNvSpPr/>
          <p:nvPr/>
        </p:nvSpPr>
        <p:spPr>
          <a:xfrm>
            <a:off x="6019920" y="3886200"/>
            <a:ext cx="2514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 for pictures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4"/>
          <p:cNvSpPr/>
          <p:nvPr/>
        </p:nvSpPr>
        <p:spPr>
          <a:xfrm>
            <a:off x="152280" y="3962520"/>
            <a:ext cx="2895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lick here for a glossary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124080" y="5791320"/>
            <a:ext cx="28195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ogle.com/earth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3" name="Picture 6" descr="http://upload.wikimedia.org/wikipedia/commons/thumb/c/cf/Strait_of_gibraltar.jpg/300px-Strait_of_gibraltar.jpg"/>
          <p:cNvPicPr/>
          <p:nvPr/>
        </p:nvPicPr>
        <p:blipFill>
          <a:blip r:embed="rId1"/>
          <a:stretch/>
        </p:blipFill>
        <p:spPr>
          <a:xfrm>
            <a:off x="3200400" y="914400"/>
            <a:ext cx="5486400" cy="3876840"/>
          </a:xfrm>
          <a:prstGeom prst="rect">
            <a:avLst/>
          </a:prstGeom>
          <a:ln w="0">
            <a:noFill/>
          </a:ln>
        </p:spPr>
      </p:pic>
      <p:sp>
        <p:nvSpPr>
          <p:cNvPr id="1614" name="WordArt 3"/>
          <p:cNvSpPr txBox="1"/>
          <p:nvPr/>
        </p:nvSpPr>
        <p:spPr>
          <a:xfrm>
            <a:off x="304920" y="304920"/>
            <a:ext cx="2895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5" name="Line 4"/>
          <p:cNvSpPr/>
          <p:nvPr/>
        </p:nvSpPr>
        <p:spPr>
          <a:xfrm>
            <a:off x="2057400" y="1981080"/>
            <a:ext cx="2971800" cy="17528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WordArt 2"/>
          <p:cNvSpPr txBox="1"/>
          <p:nvPr/>
        </p:nvSpPr>
        <p:spPr>
          <a:xfrm>
            <a:off x="2362320" y="609480"/>
            <a:ext cx="487656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hat i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617" name="WordArt 3"/>
          <p:cNvSpPr txBox="1"/>
          <p:nvPr/>
        </p:nvSpPr>
        <p:spPr>
          <a:xfrm>
            <a:off x="914400" y="2133720"/>
            <a:ext cx="7696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stream  or  river  that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f lows into a larger river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7" descr="File:Glomma meets tributary Vorma.JPG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619" name="Text Box 1027"/>
          <p:cNvSpPr/>
          <p:nvPr/>
        </p:nvSpPr>
        <p:spPr>
          <a:xfrm>
            <a:off x="12952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028"/>
          <p:cNvSpPr/>
          <p:nvPr/>
        </p:nvSpPr>
        <p:spPr>
          <a:xfrm>
            <a:off x="1066680" y="15238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"/>
              </a:rPr>
              <a:t>A Tribut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029"/>
          <p:cNvSpPr/>
          <p:nvPr/>
        </p:nvSpPr>
        <p:spPr>
          <a:xfrm>
            <a:off x="2057400" y="2438280"/>
            <a:ext cx="175248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WordArt 4"/>
          <p:cNvSpPr txBox="1"/>
          <p:nvPr/>
        </p:nvSpPr>
        <p:spPr>
          <a:xfrm>
            <a:off x="990720" y="1219320"/>
            <a:ext cx="6738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What is part of a lar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body of water th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extends into land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and is smaller than a gulf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5" descr="indian-head-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3" name="WordArt 6"/>
          <p:cNvSpPr txBox="1"/>
          <p:nvPr/>
        </p:nvSpPr>
        <p:spPr>
          <a:xfrm>
            <a:off x="2209680" y="297180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natural stream of water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iv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7" name="Picture 3" descr="river"/>
          <p:cNvPicPr/>
          <p:nvPr/>
        </p:nvPicPr>
        <p:blipFill>
          <a:blip r:embed="rId1"/>
          <a:stretch/>
        </p:blipFill>
        <p:spPr>
          <a:xfrm>
            <a:off x="1219320" y="1676520"/>
            <a:ext cx="6686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What is a large body of water that is completely surrounded by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Maxwell%2520Bay%2520Lake%2520View%25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3"/>
          <p:cNvSpPr/>
          <p:nvPr/>
        </p:nvSpPr>
        <p:spPr>
          <a:xfrm>
            <a:off x="2209680" y="18288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 Extra Bold"/>
              </a:rPr>
              <a:t>L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4"/>
          <p:cNvSpPr/>
          <p:nvPr/>
        </p:nvSpPr>
        <p:spPr>
          <a:xfrm>
            <a:off x="3124080" y="259092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Text Box 1026"/>
          <p:cNvSpPr/>
          <p:nvPr/>
        </p:nvSpPr>
        <p:spPr>
          <a:xfrm>
            <a:off x="1508040" y="118440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027"/>
          <p:cNvSpPr/>
          <p:nvPr/>
        </p:nvSpPr>
        <p:spPr>
          <a:xfrm>
            <a:off x="137160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body of land completely surrounded by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19T19:54:34Z</dcterms:modified>
  <cp:revision>33</cp:revision>
  <dc:subject/>
  <dc:title>Slide 1</dc:title>
</cp:coreProperties>
</file>